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C74A-6B87-49E4-9F75-4CB001F2B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B6F-0EE5-426C-A4CB-22EE28D4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7A7-3816-4FAB-BD69-3B590518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630-B14C-4765-8F52-A1AC193F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F1E-CFC8-40F9-BE85-63130223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747F-048A-42DF-B4E1-81C2A406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3C01-ED9E-433C-B222-5EB454B0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B31B-6CC0-41A1-B17A-A748EDAC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0CA0-A44F-46C4-965C-7AFC9CD4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6047-3386-4B97-91E1-DB537118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A3A6-EEF6-499D-BE4F-11EAC5FF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0D08-8E54-4856-91E0-2DF7F9D0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805-B60C-4548-A6DF-C06B1D13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D8A9-805E-43FA-923C-91C383ED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D3BB-6A78-4CF8-B6C3-F2998664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F80F-B2AB-4321-BDC2-5082AC60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DC23-8F2E-4AD1-8FC5-B4B02D79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07A8-F7AE-439F-9B12-F56AC484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00B-CED0-4E46-84C7-7C7D5D71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24E-D319-4DF2-9FCA-4CFC633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6A5-B95E-4714-AAA8-91CB99C6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733-935D-4016-99CB-2E6E3001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FE7-A990-48AC-BCF6-B52CD5CE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92E-6A64-4AB3-8E6C-5A71A27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D9E-54A2-4E1C-8E88-3232880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307A-0F2F-45A9-8B1B-5D074F2CF8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CB7D-F74B-459B-9F0F-20DE913D3166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0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3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5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5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RomaK</cp:lastModifiedBy>
  <dcterms:modified xsi:type="dcterms:W3CDTF">2015-09-04T10:41:22Z</dcterms:modified>
  <cp:revision>46</cp:revision>
  <dc:subject/>
  <dc:title>Slide 1</dc:title>
</cp:coreProperties>
</file>